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BE4-4A90-4479-B90F-233E4535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2FD-0861-4CCE-B07D-035842FB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ADA-490B-49DA-8978-AE183CD3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0675-8F47-4038-9AC7-43B24693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D5C9-A146-406D-9B93-C577A035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D911-13B7-4626-B01B-12CAE13F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98F-1AA3-40A5-BCF9-B0B98261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2CB-C9F9-4BE9-9DE8-7535E467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DD2-760B-48A0-BED4-0B6AB3B0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47D-2635-4E55-A7B6-750B69AB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E0E7-88EF-4A7A-9CE3-3071DE3F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DD7-57AC-4907-B56A-7EDDB6AC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6966-7DA2-4107-AB0A-11C7D9B5D97C}" type="slidenum">
              <a:rPr b="0" lang="pt-P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:\Ano Lectivo 2010-11\Uma estranha dor de barriga\0.jpg"/>
          <p:cNvPicPr/>
          <p:nvPr/>
        </p:nvPicPr>
        <p:blipFill>
          <a:blip r:embed="rId1"/>
          <a:stretch/>
        </p:blipFill>
        <p:spPr>
          <a:xfrm>
            <a:off x="468360" y="-38160"/>
            <a:ext cx="820728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:\Ano Lectivo 2010-11\Uma estranha dor de barriga\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CaixaDeTexto 2"/>
          <p:cNvSpPr/>
          <p:nvPr/>
        </p:nvSpPr>
        <p:spPr>
          <a:xfrm>
            <a:off x="6300720" y="3141720"/>
            <a:ext cx="2843280" cy="26535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arece que tenho um tanque de guerra metido na barriga e não me apetece comer n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:\Ano Lectivo 2010-11\Uma estranha dor de barriga\9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Chamada rectangular arredondada 2"/>
          <p:cNvSpPr/>
          <p:nvPr/>
        </p:nvSpPr>
        <p:spPr>
          <a:xfrm>
            <a:off x="5657760" y="3005280"/>
            <a:ext cx="3486240" cy="3016080"/>
          </a:xfrm>
          <a:prstGeom prst="wedgeRoundRectCallout">
            <a:avLst>
              <a:gd name="adj1" fmla="val -85101"/>
              <a:gd name="adj2" fmla="val -49699"/>
              <a:gd name="adj3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mo é que eu hei-de explicar… é como se tivesse uma estranha dor de barriga, sinto-me confuso, vejo tudo a andar à roda e o meu coração parece que aumenta de taman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:\Ano Lectivo 2010-11\Uma estranha dor de barriga\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:\Ano Lectivo 2010-11\Uma estranha dor de barriga\11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:\Ano Lectivo 2010-11\Uma estranha dor de barriga\12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CaixaDeTexto 2"/>
          <p:cNvSpPr/>
          <p:nvPr/>
        </p:nvSpPr>
        <p:spPr>
          <a:xfrm>
            <a:off x="0" y="0"/>
            <a:ext cx="2771640" cy="39333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Desde que conheço a Alice, tomo vários banhos por dia, penteio-me vezes sem cont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aço tudo o que antes odiava faz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:\Ano Lectivo 2010-11\Uma estranha dor de barriga\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:\Ano Lectivo 2010-11\Uma estranha dor de barriga\14.jpg"/>
          <p:cNvPicPr/>
          <p:nvPr/>
        </p:nvPicPr>
        <p:blipFill>
          <a:blip r:embed="rId1"/>
          <a:stretch/>
        </p:blipFill>
        <p:spPr>
          <a:xfrm>
            <a:off x="826920" y="0"/>
            <a:ext cx="756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:\Ano Lectivo 2010-11\Uma estranha dor de barriga\15.jpg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:\Ano Lectivo 2010-11\Uma estranha dor de barriga\16.jpg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:\Ano Lectivo 2010-11\Uma estranha dor de barriga\17.jpg"/>
          <p:cNvPicPr/>
          <p:nvPr/>
        </p:nvPicPr>
        <p:blipFill>
          <a:blip r:embed="rId1"/>
          <a:stretch/>
        </p:blipFill>
        <p:spPr>
          <a:xfrm>
            <a:off x="826920" y="0"/>
            <a:ext cx="756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:\Ano Lectivo 2010-11\Uma estranha dor de barriga\1.jpg"/>
          <p:cNvPicPr/>
          <p:nvPr/>
        </p:nvPicPr>
        <p:blipFill>
          <a:blip r:embed="rId1"/>
          <a:stretch/>
        </p:blipFill>
        <p:spPr>
          <a:xfrm>
            <a:off x="468360" y="17640"/>
            <a:ext cx="82072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:\Ano Lectivo 2010-11\Uma estranha dor de barriga\18.jpg"/>
          <p:cNvPicPr/>
          <p:nvPr/>
        </p:nvPicPr>
        <p:blipFill>
          <a:blip r:embed="rId1"/>
          <a:stretch/>
        </p:blipFill>
        <p:spPr>
          <a:xfrm>
            <a:off x="826920" y="0"/>
            <a:ext cx="749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:\Ano Lectivo 2010-11\Uma estranha dor de barriga\19.jpg"/>
          <p:cNvPicPr/>
          <p:nvPr/>
        </p:nvPicPr>
        <p:blipFill>
          <a:blip r:embed="rId1"/>
          <a:stretch/>
        </p:blipFill>
        <p:spPr>
          <a:xfrm>
            <a:off x="971640" y="0"/>
            <a:ext cx="72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:\Ano Lectivo 2010-11\Uma estranha dor de barriga\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:\Ano Lectivo 2010-11\Uma estranha dor de barriga\21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:\Ano Lectivo 2010-11\Uma estranha dor de barriga\22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:\Ano Lectivo 2010-11\Uma estranha dor de barriga\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CaixaDeTexto 2"/>
          <p:cNvSpPr/>
          <p:nvPr/>
        </p:nvSpPr>
        <p:spPr>
          <a:xfrm>
            <a:off x="0" y="692280"/>
            <a:ext cx="2843280" cy="1557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Então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Alice gosta de mi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Estou tão contente que me sinto co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CaixaDeTexto 3"/>
          <p:cNvSpPr/>
          <p:nvPr/>
        </p:nvSpPr>
        <p:spPr>
          <a:xfrm>
            <a:off x="0" y="2205000"/>
            <a:ext cx="1835280" cy="1557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um fogue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que vai à L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à veloc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a luz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CaixaDeTexto 4"/>
          <p:cNvSpPr/>
          <p:nvPr/>
        </p:nvSpPr>
        <p:spPr>
          <a:xfrm>
            <a:off x="0" y="3716280"/>
            <a:ext cx="1187280" cy="825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deada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deada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CaixaDeTexto 5"/>
          <p:cNvSpPr/>
          <p:nvPr/>
        </p:nvSpPr>
        <p:spPr>
          <a:xfrm>
            <a:off x="1835280" y="2276640"/>
            <a:ext cx="215640" cy="825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deada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deada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:\Ano Lectivo 2010-11\Uma estranha dor de barriga\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CaixaDeTexto 2"/>
          <p:cNvSpPr/>
          <p:nvPr/>
        </p:nvSpPr>
        <p:spPr>
          <a:xfrm>
            <a:off x="0" y="1341360"/>
            <a:ext cx="1835280" cy="35067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h, não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inda sinto aquela estranha dor de barrig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Será de am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:\Ano Lectivo 2010-11\Uma estranha dor de barriga\2.jpg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:\Ano Lectivo 2010-11\Uma estranha dor de barriga\3 a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:\Ano Lectivo 2010-11\Uma estranha dor de barriga\3 b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:\Ano Lectivo 2010-11\Uma estranha dor de barriga\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:\Ano Lectivo 2010-11\Uma estranha dor de barriga\5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Ano Lectivo 2010-11\Uma estranha dor de barriga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Chamada rectangular arredondada 3"/>
          <p:cNvSpPr/>
          <p:nvPr/>
        </p:nvSpPr>
        <p:spPr>
          <a:xfrm>
            <a:off x="6227640" y="1916280"/>
            <a:ext cx="2916360" cy="2233440"/>
          </a:xfrm>
          <a:prstGeom prst="wedgeRoundRectCallout">
            <a:avLst>
              <a:gd name="adj1" fmla="val -70300"/>
              <a:gd name="adj2" fmla="val 4427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Uauuu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Quem és tu? Pareces um anjo… Vieste buscar-me para me levar para o paraís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Chamada rectangular arredondada 4"/>
          <p:cNvSpPr/>
          <p:nvPr/>
        </p:nvSpPr>
        <p:spPr>
          <a:xfrm>
            <a:off x="6480000" y="476280"/>
            <a:ext cx="2664000" cy="1368360"/>
          </a:xfrm>
          <a:prstGeom prst="wedgeRoundRectCallout">
            <a:avLst>
              <a:gd name="adj1" fmla="val -66875"/>
              <a:gd name="adj2" fmla="val 1454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sculp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Foi sem quer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Não te vi. Ah! O meu nome é Al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:\Ano Lectivo 2010-11\Uma estranha dor de barriga\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CaixaDeTexto 2"/>
          <p:cNvSpPr/>
          <p:nvPr/>
        </p:nvSpPr>
        <p:spPr>
          <a:xfrm>
            <a:off x="7164360" y="3397320"/>
            <a:ext cx="1979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É incrível, mas desde o dia do encontrão, cada vez que vejo a Alice é como se a minha boca se fechasse com col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9:39:08Z</dcterms:created>
  <dc:creator>Windows User</dc:creator>
  <dc:description/>
  <dc:language>en-US</dc:language>
  <cp:lastModifiedBy>Teresa Beja</cp:lastModifiedBy>
  <dcterms:modified xsi:type="dcterms:W3CDTF">2013-10-04T17:22:16Z</dcterms:modified>
  <cp:revision>8</cp:revision>
  <dc:subject/>
  <dc:title>Diapositivo 1</dc:title>
</cp:coreProperties>
</file>